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50F0-E054-46E6-856D-F9196DA10D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Past  2) Yes  3) Yes  4)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F80E-7E49-4CAA-B0F6-3929462518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sible sentences: There used to be/didn’t use to be less/more inequality/unemployment/slavery/global warming. There used to be/didn’t use to be  fewer/more  wars/food allergies. The UK used to have more colonies. More/fewer people used to smo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1F3B-CA7B-4915-ABD7-76C052AA764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about 1 1/2 hrs: ;vocabulary  20 mins; previewing text &amp; skim reading 10 mins; intensive reading &amp; sequencing 20 mins; intensive reading for true/false 15 mins; grammar focus 5 mins; grammar sentence making 20 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3A19-8119-46AC-9C15-3868BDF805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e   2/f   3/g   4/d   5/h   6/a   7/b  8/c   9/i       You can print out and cut up the words, the picture, and definitions for learners to match phys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59C9-B081-4BD0-B9BB-D30D37A9E4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ve pairs/groups brainstorm id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9AD9-5C57-422B-9028-E864C3C6E6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86EF-E13E-47EB-A47A-74B750827B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e  2) d  3) a  4) g  5) b  6) f  7)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8FAF-52E1-490C-B3E6-A85CE2C3E81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) True 2) False 3)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A6A2-55B6-4885-96C6-FB00DEFF6ED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D672-8182-4A9F-95D7-A30CA81F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D28-4475-45EC-84FF-C07216B2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F46E-2622-40F6-992F-F56D2BE0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72D3-AA43-4DE5-AB31-230970FE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A4A-A71F-4914-8AD5-5AB7A58D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BB8D-3BDF-4A38-94CF-DEC07CA5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38E-BB47-4D10-A4EB-1E521DBC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9F0-B80F-41BB-9D4F-064E8C2B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3F46-2C4D-48D9-BC57-04A368DE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FFA-FDB5-4E01-9C9E-D11F16E4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A0F-31E2-4F9D-9A1A-09E3EFE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E8C3-FB58-45F2-8035-53F24069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BEAE-82DB-4509-A9C0-65E29638149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o_more_junk_food_in_Indian_schools" TargetMode="External"/><Relationship Id="rId2" Type="http://schemas.openxmlformats.org/officeDocument/2006/relationships/hyperlink" Target="http://eewiki.newint.org/index.php/The_price_of_the_%22right%22_to_alcohol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0000" y="2204640"/>
            <a:ext cx="62643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Fighting for</a:t>
            </a:r>
            <a:br>
              <a:rPr sz="6600"/>
            </a:b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    India’s health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898989"/>
                </a:solidFill>
                <a:latin typeface="Calibri"/>
              </a:rPr>
              <a:t>NEW INTERNATIONALIST  EASIER ENGLISH INTERMEDIATE READY LES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27320" y="404640"/>
            <a:ext cx="6016680" cy="151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244440" y="2133720"/>
            <a:ext cx="322092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f0"/>
                </a:solidFill>
                <a:latin typeface="Calibri"/>
              </a:rPr>
              <a:t>Answer the questions about a sentence from the article</a:t>
            </a: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</a:t>
            </a:r>
            <a:r>
              <a:rPr b="1" i="1" lang="en-GB" sz="3200" spc="-1" strike="noStrike">
                <a:solidFill>
                  <a:srgbClr val="0070c0"/>
                </a:solidFill>
                <a:latin typeface="Calibri"/>
              </a:rPr>
              <a:t>Then I used to buy duty-free cigarettes for my friends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who loved Dunhill, Benson &amp; Hedges or Marlboro. Now I wish I hadn’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this about the past, present, or futu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Did she buy cigarettes more than o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Has she stopped buying cigaret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Is </a:t>
            </a:r>
            <a:r>
              <a:rPr b="1" i="1" lang="en-GB" sz="3200" spc="-1" strike="noStrike">
                <a:solidFill>
                  <a:srgbClr val="00b050"/>
                </a:solidFill>
                <a:latin typeface="Calibri"/>
              </a:rPr>
              <a:t>used to</a:t>
            </a: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 followed by the infiniti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f0"/>
                </a:solidFill>
                <a:latin typeface="Calibri"/>
              </a:rPr>
              <a:t>Make as many true sentences as you can from the words below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any 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unemploy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inequalit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didn’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       fewer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s muc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slavery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global warming 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les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d to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us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colonie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mor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wars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th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UK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have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food allergies       </a:t>
            </a: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 people    </a:t>
            </a: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smok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30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the following artic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ut Indi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No more junk food in Indian schoo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No_more_junk_food_in_Indian_school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he price of the “right” to 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ewiki.newint.org/index.php/The_price_of_the_%22right%22_to_alcoh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5448240" y="260280"/>
            <a:ext cx="3583080" cy="2394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4"/>
          <a:stretch/>
        </p:blipFill>
        <p:spPr>
          <a:xfrm>
            <a:off x="6585120" y="3933720"/>
            <a:ext cx="244620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Calibri"/>
              </a:rPr>
              <a:t>This lesson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50"/>
                </a:solidFill>
                <a:latin typeface="Calibri"/>
              </a:rPr>
              <a:t>Vocabulary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Read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b0f0"/>
                </a:solidFill>
                <a:latin typeface="Calibri"/>
              </a:rPr>
              <a:t>Gramma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91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2880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Calibri"/>
              </a:rPr>
              <a:t>Match the words to the picture or the meaning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765000"/>
            <a:ext cx="35272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1/ arterie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2/ amputat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3/ operating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theat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4/ leth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5/ malnourished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6/ tobacco lobby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7/ lung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8/ campaign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300" spc="-1" strike="noStrike">
                <a:solidFill>
                  <a:srgbClr val="00b0f0"/>
                </a:solidFill>
                <a:latin typeface="Calibri"/>
              </a:rPr>
              <a:t>9/ adivasi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64000" y="907560"/>
            <a:ext cx="547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00"/>
              </a:spcBef>
              <a:buClr>
                <a:srgbClr val="92d05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roups who talk to government to get their help with sales of their cigarettes          b)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c) pro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d) something which  c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kill you is 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e) parts of the body which carry blood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f ) cut off an arm or le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g) room in a hospital for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h) someone who does not get enough food or of the right food can be 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2d050"/>
                </a:solidFill>
                <a:latin typeface="Calibri"/>
              </a:rPr>
              <a:t>i) first peoples of 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7675560" y="1628640"/>
            <a:ext cx="1079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hy do people smoke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0c0"/>
                </a:solidFill>
                <a:latin typeface="Calibri"/>
              </a:rPr>
              <a:t>What are the problems with smok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309744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8000" y="512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Take 20 seconds to read the first three paragraphs of the article and find the answer to this questio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f0"/>
                </a:solidFill>
                <a:latin typeface="Calibri"/>
              </a:rPr>
              <a:t>Is the article about the effects of smoking in Indi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5867280" y="115920"/>
            <a:ext cx="263700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bout twenty years ago you couldn’t buy imported cigarettes in India. Then I used to buy duty-free cigarettes for my friends who loved Dunhill, Benson &amp; Hedges or Marlboro. Now I wish I hadn’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 stopped in 1984, when I met a 21-year-old adivasi boy. His arteries had become hard and the doctors had to amputate his leg. My husband Stan carried him into the operating theatre and we both cried. A little later, the boy lost his second leg and then he killed himself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at sounds very unusual. But we saw many adivasis who had amputations because of tobacco. I’m not sure why. Maybe tobacco is more lethal if you have a malnourished body and this starts a very bad rea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        Mari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ote the article. Put 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the sentences in the order they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          happened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a) She decided not to buy cigarettes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b) The Indian boy committed suic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c) She regretted buying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d) She met an Indian boy who smok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e) She bought cigarettes for her frie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f) She met many Indian boys who lost their le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b0f0"/>
                </a:solidFill>
                <a:latin typeface="Calibri"/>
              </a:rPr>
              <a:t>g) The Indian boy had two oper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603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 the next part of th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. Are thes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ntences true or fals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1) </a:t>
            </a:r>
            <a:r>
              <a:rPr b="1" i="1" lang="en-GB" sz="3200" spc="-1" strike="noStrike">
                <a:solidFill>
                  <a:srgbClr val="00b0f0"/>
                </a:solidFill>
                <a:latin typeface="Calibri"/>
              </a:rPr>
              <a:t>Giant Killers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is part of the campaign again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2) 30 years ago everyone was interested in t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campa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3) In India today there is a big campaig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   </a:t>
            </a:r>
            <a:r>
              <a:rPr b="1" lang="en-GB" sz="3200" spc="-1" strike="noStrike">
                <a:solidFill>
                  <a:srgbClr val="00b0f0"/>
                </a:solidFill>
                <a:latin typeface="Calibri"/>
              </a:rPr>
              <a:t>against cigaret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875640" y="477720"/>
            <a:ext cx="194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0776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n 1991, I met David Cohen, co-author of an anti-tobacco book called </a:t>
            </a:r>
            <a:r>
              <a:rPr b="1" i="1" lang="en-GB" sz="2800" spc="-1" strike="noStrike">
                <a:solidFill>
                  <a:srgbClr val="000000"/>
                </a:solidFill>
                <a:latin typeface="Calibri"/>
              </a:rPr>
              <a:t>Giant Killers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. David and others fought big legal battles against the tobacco lobby in the US. Everyone could see how much damage tobacco was doing – so many deaths from cancer, lung damage and very big health costs. And all to make more money for the tobacco industry. The problem was that no-one wanted to listen, not the government, the industry, or people who use tobac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irty years later, I am happy to see a similar battle in India. The Institute of Public Health (IPH), started by Doctors Roopa and Narayanan Devadasan, is fighting for India’s health. The anti-tobacco campaign is one of their many fights. And they already have some good resul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20:04:22Z</dcterms:created>
  <dc:creator>Linda Ruas</dc:creator>
  <dc:description/>
  <dc:language>en-US</dc:language>
  <cp:lastModifiedBy>Linda Ruas</cp:lastModifiedBy>
  <dcterms:modified xsi:type="dcterms:W3CDTF">2015-05-27T11:54:10Z</dcterms:modified>
  <cp:revision>76</cp:revision>
  <dc:subject/>
  <dc:title>PowerPoint Presentation</dc:title>
</cp:coreProperties>
</file>